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B55A-F78E-4306-B599-A6AB1E79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ED20-FDCC-4C37-9453-5409A237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7B3B-A1DB-4288-96D0-14E30F5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490E-D9D5-47CD-A462-1B86CC5D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B50-BC85-4826-AAC3-01807540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5534-2597-4A63-BF22-5E1834D9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431F-8DB7-418B-A546-BF52426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4168-2389-48EE-8D88-81B2A55A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213-BA9C-4487-A3C7-656A08E5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B8D-051D-4C9B-9B60-3DAE12AE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31C-838E-47FE-93AC-1576E354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6449-B843-4FB9-B4B3-A1AB9AE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36FB-6FC9-4317-857A-E303B781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017C-D010-4541-863A-2B79058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85A2-B187-4D7D-8660-0EA4F229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190-0592-491F-AA75-464748EB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C289-13FD-497A-B80C-D31E841B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73D2-E1F6-4C4B-B7AD-7B92508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F9A7-E6FB-49F2-BDB3-A99F555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84A5-C23C-4A59-87FC-4C833FC0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FC19-B64E-4207-8CDE-2AAF5145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ACDF-8F77-42BF-89DC-A50A1D8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A54D-6279-48A0-9C2A-CCA0AFF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2AC6-196F-4FDD-8B50-E4A10A62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1F7-A5CD-4272-A040-EC8BB3759F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FD86-52A9-4DA0-9587-78517EDC4D7E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ЫЕ ОСНОВАНИ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И И ПРОВЕДЕНИЯ ДЕМОНСТРАЦИОННОГО ЭКЗАМЕН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ОДНОЙ ИЗ ФОРМ ГОСУДАРСТВЕННОЙ ИТОГОВОЙ АТТЕСТ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екрасова Юлия Александровн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меститель директор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менск-Уральского агропромышленного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ехникума по научно-методической работе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уководитель РЦ РПО СО агропромышленного и лесотехнического профил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90920" y="6477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Каменск-Уральский, 20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ЧЕНЬ ПОРУЧЕНИЙ ПРЕЗИДЕНТА РФ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б Перечня поручений по итогам рабочей поездки в Свердловскую область, состоявшейся 6 марта 2018 года (утв. Президентом РФ от 6 апреля 2018 г. N Пр-580)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обеспечить увеличение до 50 процентов доли организаций, которые реализуют образовательные программы среднего профессионального образования и в которых демонстрационный экзамен по стандартам «Ворлдскиллс» является одной из форм государственной итоговой аттестации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25240"/>
            <a:ext cx="8915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ОРРЕКТИРОВКА ЛОКАЛЬНЫХ НОРМАТИВНЫХ АКТО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120" y="17478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 в ПОО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7840" y="35812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оведения государственной итоговой аттестации по образовательной программе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Ф от 16 августа 2013 г. N 968, с изменениями, внесенными приказом Министерства образования и науки РФ от 31 января 2014 г. N 74 и приказом Министерства образования и науки РФ от 17 ноября 2017 г. N 1138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3114720" y="409572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52280" y="4724280"/>
            <a:ext cx="8805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выпускники по рабочим профессиям выполняют «выпускную практическую квалификационную работу и письменную экзаменационную рабо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монстрационный экзамен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профессии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3352680" y="2606760"/>
            <a:ext cx="1305000" cy="60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33520" y="3429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8.6  «Государственная итоговая аттестация включает защиту выпускной квалификационной работы (выпускная практическая квалификационная работа и письменная экзаменационная работа)»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-6480" y="2752560"/>
            <a:ext cx="89694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«В зависимости от осваиваемой образовательной программы СПО и в соответствии с ФГОС СПО выпускная квалификационная работа выполняется в следующих видах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ная работа (дипломный проек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(ил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онный экзамен - для выпускников, осваивающих программы подготовки специалистов среднего звена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специальност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-6480" y="2752560"/>
            <a:ext cx="89694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 8.6. «Государственная итоговая аттестация включает подготовку и защи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ой квалификационн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ипломная работа, дипломный проект). Обязательное требование - соответствие тематики выпускной квалификационной работы содержанию одного или нескольких профессиональных модуле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вводится по усмотрению образовательно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43080" y="1371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форме ДЭ и в форме практического задания, разработанного внутри ПОО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ЭР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52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пломная работа, дипломный проект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форме ДЭ и в форме любого практического задания, разработанного внутри ПОО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2-02T11:13:40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